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13FF58-1995-426F-A04F-C8296F146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文鼎粗圆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B16E68-FB29-4F6B-8562-AF137B3C1B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50E-4360-42E7-9F1C-FA32AE25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746-B3D0-4BE3-884C-B1E407D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DDD-D949-4F15-BA28-04462FCB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DB1-FD87-42CE-8426-C6A93623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586C-6A13-4D93-AC61-5F6DDA38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474-5F73-424E-841E-80AB12D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643-F86D-4314-85FF-CB53FE6B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67D-09FD-4DA2-84CC-08AC5C80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6E9-0D58-4413-85B6-0CA1B22B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D45-9924-43E5-8EC4-BDE7AFB1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E80-B9AB-42BC-B00D-A46AD99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307-098C-4F61-8BA9-B8E86C53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92AF72-A3BC-479C-8585-7A6012324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34" descr="03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8" name="Picture 1032" descr="kongzi6"/>
          <p:cNvPicPr/>
          <p:nvPr/>
        </p:nvPicPr>
        <p:blipFill>
          <a:blip r:embed="rId2"/>
          <a:stretch/>
        </p:blipFill>
        <p:spPr>
          <a:xfrm>
            <a:off x="4648320" y="0"/>
            <a:ext cx="4495320" cy="6857640"/>
          </a:xfrm>
          <a:prstGeom prst="rect">
            <a:avLst/>
          </a:prstGeom>
          <a:ln w="9525">
            <a:noFill/>
          </a:ln>
        </p:spPr>
      </p:pic>
      <p:sp>
        <p:nvSpPr>
          <p:cNvPr id="49" name="WordArt 1033"/>
          <p:cNvSpPr txBox="1"/>
          <p:nvPr/>
        </p:nvSpPr>
        <p:spPr>
          <a:xfrm rot="5400000">
            <a:off x="-126360" y="2270880"/>
            <a:ext cx="5112360" cy="15235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ln w="0">
                  <a:noFill/>
                </a:ln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1600" spc="-1" strike="noStrike">
                <a:ln w="0">
                  <a:noFill/>
                </a:ln>
                <a:solidFill>
                  <a:srgbClr val="000000"/>
                </a:solidFill>
                <a:latin typeface="华文行楷"/>
                <a:ea typeface="华文行楷"/>
              </a:rPr>
              <a:t>论语》十则</a:t>
            </a:r>
            <a:endParaRPr b="1" lang="en-US" sz="1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1400" y="6249960"/>
            <a:ext cx="9345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0" y="6281640"/>
            <a:ext cx="7668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幻灯片之家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-1407240" y="380880"/>
            <a:ext cx="9500760" cy="252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：“温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而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知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新，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师 </a:t>
            </a:r>
            <a:r>
              <a:rPr b="0" lang="en-US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矣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353760" y="1398600"/>
            <a:ext cx="1827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旧的（知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158160" y="1398600"/>
            <a:ext cx="729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领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174160" y="1424160"/>
            <a:ext cx="729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19880" y="313056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92160" y="3130560"/>
            <a:ext cx="6382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（这一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396600" y="313056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403240" y="360828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8520" y="252360"/>
            <a:ext cx="6015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660066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1025280" y="4191120"/>
            <a:ext cx="42372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理解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: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讨论正确的学习方法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644920" y="4952880"/>
            <a:ext cx="20185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常复旧课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宋体"/>
              </a:rPr>
              <a:t>领悟新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5181480" y="2971800"/>
            <a:ext cx="2133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语气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09480" y="615960"/>
            <a:ext cx="7862400" cy="2770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：“学而不思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则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不学则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39280" y="1550880"/>
            <a:ext cx="729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迷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51680" y="35323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疑惑不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275480" y="4343400"/>
            <a:ext cx="4524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理解：讨论正确的学习方法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296520" y="5410080"/>
            <a:ext cx="35442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学习与思考相结合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方能有所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876920" y="1447920"/>
            <a:ext cx="1447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257800" y="2133720"/>
            <a:ext cx="2057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42000" y="304920"/>
            <a:ext cx="8498880" cy="313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5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诲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之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?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知为不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是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知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也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901960" y="1195560"/>
            <a:ext cx="729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教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教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27360" y="1219320"/>
            <a:ext cx="12416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通“汝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6612840" y="1271520"/>
            <a:ext cx="1827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认识事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（的道理）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09520" y="355752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4586400" y="35575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代词，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7025040" y="3552840"/>
            <a:ext cx="1278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通“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聪明智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831600" y="4419720"/>
            <a:ext cx="4754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固定句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“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也”译作“……是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165680" y="5181480"/>
            <a:ext cx="42372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理解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: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讨论正确的学习态度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156400" y="5943600"/>
            <a:ext cx="41515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要老实谦虚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不要不懂装懂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609480" y="685800"/>
            <a:ext cx="8152920" cy="265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660066"/>
                </a:solidFill>
                <a:latin typeface="隶书"/>
                <a:ea typeface="隶书"/>
              </a:rPr>
              <a:t>6.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见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贤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思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齐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焉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见不贤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而内自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省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也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124080" y="1371600"/>
            <a:ext cx="198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贤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0" y="1371600"/>
            <a:ext cx="1447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52480" y="3352680"/>
            <a:ext cx="152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反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62120" y="2057400"/>
            <a:ext cx="7848360" cy="219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见到贤人就应想到向他看齐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见到不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的人就应自我反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791320" y="1371600"/>
            <a:ext cx="2971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语气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768960" y="380880"/>
            <a:ext cx="6015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5520" y="380880"/>
            <a:ext cx="47408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：“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三人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必有我师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-76320" y="2362320"/>
            <a:ext cx="96534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择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其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善者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而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之，其不善者而改之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570680" y="1398600"/>
            <a:ext cx="1827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虚数，几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718160" y="147492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7562880" y="1087560"/>
            <a:ext cx="10998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=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于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在其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35240" y="3227400"/>
            <a:ext cx="1004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他们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646280" y="3227400"/>
            <a:ext cx="1278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优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好的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3246480" y="3227400"/>
            <a:ext cx="729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顺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0" y="4724280"/>
            <a:ext cx="7090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理解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讨论正确的学习态度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0" y="5562720"/>
            <a:ext cx="78102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虚心求教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取长补短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改正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762120" y="457200"/>
            <a:ext cx="7467120" cy="455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8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曾子曰：“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士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以不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弘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任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重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而道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仁以为己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不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重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死而后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不亦远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2209680" y="1295280"/>
            <a:ext cx="3962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有抱负的人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28"/>
          <p:cNvSpPr/>
          <p:nvPr/>
        </p:nvSpPr>
        <p:spPr>
          <a:xfrm>
            <a:off x="6553080" y="1219320"/>
            <a:ext cx="198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强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1066680" y="3124080"/>
            <a:ext cx="1752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重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3657600" y="3048120"/>
            <a:ext cx="3352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以仁为己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31"/>
          <p:cNvSpPr/>
          <p:nvPr/>
        </p:nvSpPr>
        <p:spPr>
          <a:xfrm>
            <a:off x="2362320" y="3809880"/>
            <a:ext cx="6171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把“仁”当作自己的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32"/>
          <p:cNvSpPr/>
          <p:nvPr/>
        </p:nvSpPr>
        <p:spPr>
          <a:xfrm>
            <a:off x="3581280" y="5105520"/>
            <a:ext cx="152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33"/>
          <p:cNvSpPr/>
          <p:nvPr/>
        </p:nvSpPr>
        <p:spPr>
          <a:xfrm>
            <a:off x="533520" y="5867280"/>
            <a:ext cx="80769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00ff"/>
                </a:solidFill>
                <a:latin typeface="文鼎粗圆"/>
                <a:ea typeface="文鼎粗圆"/>
              </a:rPr>
              <a:t>理解：这一则主要谈品德修养问题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762120" y="533520"/>
            <a:ext cx="7772040" cy="265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660066"/>
                </a:solidFill>
                <a:latin typeface="隶书"/>
                <a:ea typeface="隶书"/>
              </a:rPr>
              <a:t>9.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子曰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岁寒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然后知松柏之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凋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也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514600" y="1295280"/>
            <a:ext cx="2742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至岁寒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066680" y="1905120"/>
            <a:ext cx="6400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即到一年中最冷的时候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09480" y="3276720"/>
            <a:ext cx="2057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凋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80880" y="3962520"/>
            <a:ext cx="83815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理解</a:t>
            </a:r>
            <a:r>
              <a:rPr b="0" lang="en-US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这一则主要谈人的品德修养问题</a:t>
            </a:r>
            <a:r>
              <a:rPr b="0" lang="en-US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借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松柏之后凋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比喻社会现象 </a:t>
            </a:r>
            <a:r>
              <a:rPr b="0" lang="en-US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讲面对利害关系，遇到事变关头，方能见君子的操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62120" y="457200"/>
            <a:ext cx="8381520" cy="455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10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子贡问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: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有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一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而可以终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之者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?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:“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恕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乎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!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己所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勿施于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267080" y="1295280"/>
            <a:ext cx="2057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一个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457200" y="3200400"/>
            <a:ext cx="13712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奉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648320" y="3124080"/>
            <a:ext cx="198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大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748080" y="51325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想干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572000" y="4267080"/>
            <a:ext cx="51811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理解：这一则主要谈思想品德修养，为人处世之道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72200" y="3124080"/>
            <a:ext cx="2590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语气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248520" y="3657600"/>
            <a:ext cx="1310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31" descr="tn_016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4" name="Text Box 1027"/>
          <p:cNvSpPr/>
          <p:nvPr/>
        </p:nvSpPr>
        <p:spPr>
          <a:xfrm>
            <a:off x="533520" y="304920"/>
            <a:ext cx="86101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3600"/>
              </a:spcBef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全文思想内容包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28"/>
          <p:cNvSpPr/>
          <p:nvPr/>
        </p:nvSpPr>
        <p:spPr>
          <a:xfrm>
            <a:off x="3809880" y="1905120"/>
            <a:ext cx="480024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 ①</a:t>
            </a:r>
            <a:r>
              <a:rPr b="0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学习方法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29"/>
          <p:cNvSpPr/>
          <p:nvPr/>
        </p:nvSpPr>
        <p:spPr>
          <a:xfrm>
            <a:off x="3809880" y="3352680"/>
            <a:ext cx="487656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</a:pPr>
            <a:r>
              <a:rPr b="0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 ②</a:t>
            </a:r>
            <a:r>
              <a:rPr b="0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学习态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30"/>
          <p:cNvSpPr/>
          <p:nvPr/>
        </p:nvSpPr>
        <p:spPr>
          <a:xfrm>
            <a:off x="3809880" y="4648320"/>
            <a:ext cx="5333760" cy="178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  ③</a:t>
            </a:r>
            <a:r>
              <a:rPr b="0" lang="zh-CN" sz="6000" spc="-1" strike="noStrike">
                <a:solidFill>
                  <a:srgbClr val="0000ff"/>
                </a:solidFill>
                <a:latin typeface="宋体"/>
                <a:ea typeface="黑体"/>
              </a:rPr>
              <a:t>修身做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32" descr="kz1"/>
          <p:cNvPicPr/>
          <p:nvPr/>
        </p:nvPicPr>
        <p:blipFill>
          <a:blip r:embed="rId2"/>
          <a:stretch/>
        </p:blipFill>
        <p:spPr>
          <a:xfrm>
            <a:off x="0" y="1447920"/>
            <a:ext cx="3004920" cy="5409720"/>
          </a:xfrm>
          <a:prstGeom prst="rect">
            <a:avLst/>
          </a:prstGeom>
          <a:ln w="9525">
            <a:noFill/>
          </a:ln>
        </p:spPr>
      </p:pic>
    </p:spTree>
  </p:cSld>
  <p:transition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hong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0" name="Text Box 2"/>
          <p:cNvSpPr/>
          <p:nvPr/>
        </p:nvSpPr>
        <p:spPr>
          <a:xfrm>
            <a:off x="0" y="380880"/>
            <a:ext cx="41907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lang="zh-CN" sz="5400" spc="-1" strike="noStrike">
                <a:solidFill>
                  <a:srgbClr val="003300"/>
                </a:solidFill>
                <a:latin typeface="华文新魏"/>
                <a:ea typeface="华文新魏"/>
              </a:rPr>
              <a:t>学习方法</a:t>
            </a:r>
            <a:r>
              <a:rPr b="0" lang="en-US" sz="5400" spc="-1" strike="noStrike">
                <a:solidFill>
                  <a:srgbClr val="003300"/>
                </a:solidFill>
                <a:latin typeface="华文新魏"/>
                <a:ea typeface="华文新魏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971800" y="533520"/>
            <a:ext cx="6476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要常复习实习、学思相结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62120" y="2057400"/>
            <a:ext cx="68576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学而时习之，不亦说乎？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62120" y="3276720"/>
            <a:ext cx="700992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温故而知新，可以为师矣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33520" y="4648320"/>
            <a:ext cx="838152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学而不思则罔，思而不学则殆。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406440" y="1628640"/>
            <a:ext cx="1079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tn_bw20"/>
          <p:cNvPicPr/>
          <p:nvPr/>
        </p:nvPicPr>
        <p:blipFill>
          <a:blip r:embed="rId1">
            <a:grayscl/>
          </a:blip>
          <a:stretch/>
        </p:blipFill>
        <p:spPr>
          <a:xfrm>
            <a:off x="0" y="-84240"/>
            <a:ext cx="9143640" cy="6941880"/>
          </a:xfrm>
          <a:prstGeom prst="rect">
            <a:avLst/>
          </a:prstGeom>
          <a:ln w="9525">
            <a:noFill/>
          </a:ln>
        </p:spPr>
      </p:pic>
      <p:sp>
        <p:nvSpPr>
          <p:cNvPr id="54" name="Text Box 6"/>
          <p:cNvSpPr/>
          <p:nvPr/>
        </p:nvSpPr>
        <p:spPr>
          <a:xfrm>
            <a:off x="3048120" y="304920"/>
            <a:ext cx="571464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l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ú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语》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属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语录体散文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，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孔子弟子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及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再传弟子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关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孔子及其弟子言行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的记录，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0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篇 。内容有孔子谈话，答弟子问及弟子间的相互讨论。它是研究孔子思想的主要依据。南宋时，朱熹把它列为“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四书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”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（《论语》《孟子》《大学》《中庸》）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之一，成为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儒家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宋体"/>
              </a:rPr>
              <a:t>的重要经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228600" y="0"/>
            <a:ext cx="2666520" cy="914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ln w="0">
                  <a:noFill/>
                </a:ln>
                <a:solidFill>
                  <a:srgbClr val="0066cc"/>
                </a:solidFill>
                <a:latin typeface="宋体"/>
                <a:ea typeface="宋体"/>
              </a:rPr>
              <a:t>《</a:t>
            </a:r>
            <a:r>
              <a:rPr b="0" lang="zh-CN" sz="3600" spc="-1" strike="noStrike">
                <a:ln w="0">
                  <a:noFill/>
                </a:ln>
                <a:solidFill>
                  <a:srgbClr val="0066cc"/>
                </a:solidFill>
                <a:latin typeface="宋体"/>
                <a:ea typeface="宋体"/>
              </a:rPr>
              <a:t>论语》</a:t>
            </a:r>
            <a:endParaRPr b="0" lang="en-US" sz="3600" spc="-1" strike="noStrike">
              <a:ln w="0">
                <a:noFill/>
              </a:ln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6" name="Picture 9" descr="kongzi3"/>
          <p:cNvPicPr/>
          <p:nvPr/>
        </p:nvPicPr>
        <p:blipFill>
          <a:blip r:embed="rId2"/>
          <a:stretch/>
        </p:blipFill>
        <p:spPr>
          <a:xfrm>
            <a:off x="0" y="1066680"/>
            <a:ext cx="2971440" cy="5790960"/>
          </a:xfrm>
          <a:prstGeom prst="rect">
            <a:avLst/>
          </a:prstGeom>
          <a:ln w="9525">
            <a:noFill/>
          </a:ln>
        </p:spPr>
      </p:pic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hong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6" name="Text Box 2"/>
          <p:cNvSpPr/>
          <p:nvPr/>
        </p:nvSpPr>
        <p:spPr>
          <a:xfrm>
            <a:off x="0" y="457200"/>
            <a:ext cx="32000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lang="zh-CN" sz="5400" spc="-1" strike="noStrike">
                <a:solidFill>
                  <a:srgbClr val="003300"/>
                </a:solidFill>
                <a:latin typeface="华文新魏"/>
                <a:ea typeface="华文新魏"/>
              </a:rPr>
              <a:t>学习态度</a:t>
            </a:r>
            <a:r>
              <a:rPr b="0" lang="en-US" sz="5400" spc="-1" strike="noStrike">
                <a:solidFill>
                  <a:srgbClr val="003300"/>
                </a:solidFill>
                <a:latin typeface="华文新魏"/>
                <a:ea typeface="华文新魏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841480" y="609480"/>
            <a:ext cx="63021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应该诚实、谦虚、取长补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1905120"/>
            <a:ext cx="89150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知之为知之，不知为不知，是知也</a:t>
            </a:r>
            <a:r>
              <a:rPr b="1" lang="zh-CN" sz="4400" spc="-1" strike="noStrike">
                <a:solidFill>
                  <a:srgbClr val="0000cc"/>
                </a:solidFill>
                <a:latin typeface="宋体"/>
                <a:ea typeface="宋体"/>
              </a:rPr>
              <a:t>。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0" y="3505320"/>
            <a:ext cx="84578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见贤思齐焉，见不贤而内自省也。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4800600"/>
            <a:ext cx="11810520" cy="170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三人行，必有我师焉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……</a:t>
            </a: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其不善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00"/>
              </a:spcBef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而改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hong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2" name="Text Box 2"/>
          <p:cNvSpPr/>
          <p:nvPr/>
        </p:nvSpPr>
        <p:spPr>
          <a:xfrm>
            <a:off x="0" y="304920"/>
            <a:ext cx="33523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701"/>
              </a:spcBef>
            </a:pPr>
            <a:r>
              <a:rPr b="0" lang="zh-CN" sz="5400" spc="-1" strike="noStrike">
                <a:solidFill>
                  <a:srgbClr val="003300"/>
                </a:solidFill>
                <a:latin typeface="华文新魏"/>
                <a:ea typeface="华文新魏"/>
              </a:rPr>
              <a:t>修身做人</a:t>
            </a:r>
            <a:r>
              <a:rPr b="0" lang="en-US" sz="5400" spc="-1" strike="noStrike">
                <a:solidFill>
                  <a:srgbClr val="003300"/>
                </a:solidFill>
                <a:latin typeface="华文新魏"/>
                <a:ea typeface="华文新魏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971800" y="457200"/>
            <a:ext cx="6400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要厚道仁义、坚贞守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62120" y="1752480"/>
            <a:ext cx="80769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人不知而不愠，不亦君子乎？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-304920" y="2971800"/>
            <a:ext cx="967716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宋体"/>
              </a:rPr>
              <a:t>任重而道远，仁以为己任，死而后已。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85800" y="4267080"/>
            <a:ext cx="80006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岁寒，然后知松柏之后凋也。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33520" y="5392800"/>
            <a:ext cx="7314840" cy="159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2401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  <a:ea typeface="宋体"/>
              </a:rPr>
              <a:t>己所不欲，勿施于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03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09" name="Text Box 2"/>
          <p:cNvSpPr/>
          <p:nvPr/>
        </p:nvSpPr>
        <p:spPr>
          <a:xfrm>
            <a:off x="3048120" y="380880"/>
            <a:ext cx="26665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讨论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8600" y="1981080"/>
            <a:ext cx="868644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        </a:t>
            </a:r>
            <a:r>
              <a:rPr b="0" lang="zh-CN" sz="4800" spc="-1" strike="noStrike">
                <a:solidFill>
                  <a:srgbClr val="ff0066"/>
                </a:solidFill>
                <a:latin typeface="宋体"/>
                <a:ea typeface="宋体"/>
              </a:rPr>
              <a:t>在本文论述的学习方法和学习态度中，你认为最有价值的是哪一点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?</a:t>
            </a:r>
            <a:r>
              <a:rPr b="0" lang="zh-CN" sz="4800" spc="-1" strike="noStrike">
                <a:solidFill>
                  <a:srgbClr val="ff0066"/>
                </a:solidFill>
                <a:latin typeface="宋体"/>
                <a:ea typeface="宋体"/>
              </a:rPr>
              <a:t>为什么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? </a:t>
            </a:r>
            <a:r>
              <a:rPr b="0" lang="zh-CN" sz="4800" spc="-1" strike="noStrike">
                <a:solidFill>
                  <a:srgbClr val="ff0066"/>
                </a:solidFill>
                <a:latin typeface="宋体"/>
                <a:ea typeface="宋体"/>
              </a:rPr>
              <a:t>在学习生活中，你在哪一方面做得最不够，今后有何打算？</a:t>
            </a:r>
            <a:r>
              <a:rPr b="0" lang="en-US" sz="48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dh8"/>
          <p:cNvPicPr/>
          <p:nvPr/>
        </p:nvPicPr>
        <p:blipFill>
          <a:blip r:embed="rId2"/>
          <a:stretch/>
        </p:blipFill>
        <p:spPr>
          <a:xfrm>
            <a:off x="0" y="0"/>
            <a:ext cx="2666520" cy="1999800"/>
          </a:xfrm>
          <a:prstGeom prst="rect">
            <a:avLst/>
          </a:prstGeom>
          <a:ln w="9525">
            <a:noFill/>
          </a:ln>
        </p:spPr>
      </p:pic>
      <p:sp>
        <p:nvSpPr>
          <p:cNvPr id="212" name="文本框 1"/>
          <p:cNvSpPr/>
          <p:nvPr/>
        </p:nvSpPr>
        <p:spPr>
          <a:xfrm>
            <a:off x="723960" y="6108840"/>
            <a:ext cx="5327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更多免费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PPT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模板下载：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059"/>
          <p:cNvPicPr/>
          <p:nvPr/>
        </p:nvPicPr>
        <p:blipFill>
          <a:blip r:embed="rId1"/>
          <a:stretch/>
        </p:blipFill>
        <p:spPr>
          <a:xfrm>
            <a:off x="0" y="0"/>
            <a:ext cx="9143640" cy="6933960"/>
          </a:xfrm>
          <a:prstGeom prst="rect">
            <a:avLst/>
          </a:prstGeom>
          <a:ln w="9525">
            <a:noFill/>
          </a:ln>
        </p:spPr>
      </p:pic>
      <p:sp>
        <p:nvSpPr>
          <p:cNvPr id="214" name="Text Box 2"/>
          <p:cNvSpPr/>
          <p:nvPr/>
        </p:nvSpPr>
        <p:spPr>
          <a:xfrm>
            <a:off x="2438280" y="228600"/>
            <a:ext cx="396216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探究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838080" y="1600200"/>
            <a:ext cx="7086240" cy="170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己所不欲，勿施于人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最早是由儒家提倡的待人接物的处事之道，对此，有人曾经有过不同的看法。联系自己的生活体验，全班讨论：怎样看待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己所不欲，勿施于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dh7"/>
          <p:cNvPicPr/>
          <p:nvPr/>
        </p:nvPicPr>
        <p:blipFill>
          <a:blip r:embed="rId2"/>
          <a:stretch/>
        </p:blipFill>
        <p:spPr>
          <a:xfrm>
            <a:off x="457200" y="228600"/>
            <a:ext cx="1599840" cy="1279080"/>
          </a:xfrm>
          <a:prstGeom prst="rect">
            <a:avLst/>
          </a:prstGeom>
          <a:ln w="9525">
            <a:noFill/>
          </a:ln>
        </p:spPr>
      </p:pic>
    </p:spTree>
  </p:cSld>
  <p:transition>
    <p:blinds dir="ver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5" descr="111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8" name="Text Box 3"/>
          <p:cNvSpPr/>
          <p:nvPr/>
        </p:nvSpPr>
        <p:spPr>
          <a:xfrm>
            <a:off x="4076280" y="457200"/>
            <a:ext cx="4370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黑体"/>
              </a:rPr>
              <a:t>本课中出现的成语、格言或警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469800" y="2819520"/>
            <a:ext cx="24253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温故知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998960" y="2819520"/>
            <a:ext cx="194580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任重道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572000" y="1752480"/>
            <a:ext cx="2514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死而后已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4781520" y="4038480"/>
            <a:ext cx="28634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三人行，必有我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924480" y="4114800"/>
            <a:ext cx="15220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择善而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80880" y="1752480"/>
            <a:ext cx="25142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不亦乐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规范说明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0"/>
              </a:rPr>
              <a:t>课件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00080"/>
                </a:solidFill>
                <a:uFillTx/>
                <a:latin typeface="Times New Roman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fld id="{6A89C435-B1FA-44E9-A648-584FD4CA142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085" descr="03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58" name="Text Box 3081"/>
          <p:cNvSpPr/>
          <p:nvPr/>
        </p:nvSpPr>
        <p:spPr>
          <a:xfrm>
            <a:off x="0" y="0"/>
            <a:ext cx="556236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ff"/>
                </a:solidFill>
                <a:latin typeface="文鼎粗圆"/>
                <a:ea typeface="文鼎粗圆"/>
              </a:rPr>
              <a:t>孔子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，名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文鼎粗圆"/>
                <a:ea typeface="文鼎粗圆"/>
              </a:rPr>
              <a:t>丘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，字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文鼎粗圆"/>
                <a:ea typeface="文鼎粗圆"/>
              </a:rPr>
              <a:t>仲尼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，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文鼎粗圆"/>
                <a:ea typeface="文鼎粗圆"/>
              </a:rPr>
              <a:t>春秋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时期鲁国</a:t>
            </a:r>
            <a:r>
              <a:rPr b="0" lang="zh-CN" sz="3600" spc="-1" strike="noStrike">
                <a:solidFill>
                  <a:srgbClr val="ff3300"/>
                </a:solidFill>
                <a:latin typeface="文鼎粗圆"/>
                <a:ea typeface="文鼎粗圆"/>
              </a:rPr>
              <a:t>陬</a:t>
            </a:r>
            <a:r>
              <a:rPr b="0" lang="en-US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zōu</a:t>
            </a:r>
            <a:r>
              <a:rPr b="0" lang="en-US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邑</a:t>
            </a:r>
            <a:r>
              <a:rPr b="0" lang="en-US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今山东曲阜</a:t>
            </a:r>
            <a:r>
              <a:rPr b="0" lang="en-US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人，是我国历史上伟大的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文鼎粗圆"/>
                <a:ea typeface="文鼎粗圆"/>
              </a:rPr>
              <a:t>思想家</a:t>
            </a:r>
            <a:r>
              <a:rPr b="0" lang="zh-CN" sz="3600" spc="-1" strike="noStrike">
                <a:solidFill>
                  <a:srgbClr val="ff0000"/>
                </a:solidFill>
                <a:latin typeface="文鼎粗圆"/>
                <a:ea typeface="文鼎粗圆"/>
              </a:rPr>
              <a:t>、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文鼎粗圆"/>
                <a:ea typeface="文鼎粗圆"/>
              </a:rPr>
              <a:t>教育家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，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文鼎粗圆"/>
                <a:ea typeface="文鼎粗圆"/>
              </a:rPr>
              <a:t>儒家学派的创始人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封建社会中被尊为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圣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文鼎粗圆"/>
              </a:rPr>
              <a:t>”。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他对我国古代文化的整理、研究和传播，他的思想和学说，为中国文化乃至世界文明做出了不朽的贡献，联合国教科文组织把他列为</a:t>
            </a:r>
            <a:r>
              <a:rPr b="0" lang="zh-CN" sz="3600" spc="-1" strike="noStrike">
                <a:solidFill>
                  <a:srgbClr val="ff0000"/>
                </a:solidFill>
                <a:latin typeface="文鼎粗圆"/>
                <a:ea typeface="文鼎粗圆"/>
              </a:rPr>
              <a:t>世界十大名人之一</a:t>
            </a:r>
            <a:r>
              <a:rPr b="0" lang="zh-CN" sz="3600" spc="-1" strike="noStrike">
                <a:solidFill>
                  <a:srgbClr val="000000"/>
                </a:solidFill>
                <a:latin typeface="文鼎粗圆"/>
                <a:ea typeface="文鼎粗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082" descr="kongzi5"/>
          <p:cNvPicPr/>
          <p:nvPr/>
        </p:nvPicPr>
        <p:blipFill>
          <a:blip r:embed="rId2"/>
          <a:stretch/>
        </p:blipFill>
        <p:spPr>
          <a:xfrm>
            <a:off x="5715000" y="0"/>
            <a:ext cx="3428640" cy="6857640"/>
          </a:xfrm>
          <a:prstGeom prst="rect">
            <a:avLst/>
          </a:prstGeom>
          <a:ln w="9525">
            <a:noFill/>
          </a:ln>
        </p:spPr>
      </p:pic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7a-1"/>
          <p:cNvPicPr/>
          <p:nvPr/>
        </p:nvPicPr>
        <p:blipFill>
          <a:blip r:embed="rId1"/>
          <a:stretch/>
        </p:blipFill>
        <p:spPr>
          <a:xfrm>
            <a:off x="-1440" y="0"/>
            <a:ext cx="9143640" cy="5562360"/>
          </a:xfrm>
          <a:prstGeom prst="rect">
            <a:avLst/>
          </a:prstGeom>
          <a:ln w="9525">
            <a:noFill/>
          </a:ln>
        </p:spPr>
      </p:pic>
      <p:sp>
        <p:nvSpPr>
          <p:cNvPr id="61" name="Text Box 3"/>
          <p:cNvSpPr/>
          <p:nvPr/>
        </p:nvSpPr>
        <p:spPr>
          <a:xfrm>
            <a:off x="1965240" y="6008760"/>
            <a:ext cx="18396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隶书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03360" y="5943600"/>
            <a:ext cx="5724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子出生地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----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山东曲阜（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宋体"/>
              </a:rPr>
              <a:t>ù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尼山</a:t>
            </a: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全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tn_bw19"/>
          <p:cNvPicPr/>
          <p:nvPr/>
        </p:nvPicPr>
        <p:blipFill>
          <a:blip r:embed="rId1"/>
          <a:stretch/>
        </p:blipFill>
        <p:spPr>
          <a:xfrm>
            <a:off x="0" y="-46080"/>
            <a:ext cx="9143640" cy="6948000"/>
          </a:xfrm>
          <a:prstGeom prst="rect">
            <a:avLst/>
          </a:prstGeom>
          <a:ln w="9525">
            <a:noFill/>
          </a:ln>
        </p:spPr>
      </p:pic>
      <p:pic>
        <p:nvPicPr>
          <p:cNvPr id="64" name="Picture 2" descr="孔府"/>
          <p:cNvPicPr/>
          <p:nvPr/>
        </p:nvPicPr>
        <p:blipFill>
          <a:blip r:embed="rId2"/>
          <a:stretch/>
        </p:blipFill>
        <p:spPr>
          <a:xfrm>
            <a:off x="228600" y="304920"/>
            <a:ext cx="3885840" cy="5248080"/>
          </a:xfrm>
          <a:prstGeom prst="rect">
            <a:avLst/>
          </a:prstGeom>
          <a:ln w="9525">
            <a:noFill/>
          </a:ln>
        </p:spPr>
      </p:pic>
      <p:pic>
        <p:nvPicPr>
          <p:cNvPr id="65" name="Picture 3" descr="孔庙"/>
          <p:cNvPicPr/>
          <p:nvPr/>
        </p:nvPicPr>
        <p:blipFill>
          <a:blip r:embed="rId3"/>
          <a:stretch/>
        </p:blipFill>
        <p:spPr>
          <a:xfrm>
            <a:off x="4343400" y="304920"/>
            <a:ext cx="4570200" cy="5181120"/>
          </a:xfrm>
          <a:prstGeom prst="rect">
            <a:avLst/>
          </a:prstGeom>
          <a:ln w="9525">
            <a:noFill/>
          </a:ln>
        </p:spPr>
      </p:pic>
      <p:sp>
        <p:nvSpPr>
          <p:cNvPr id="66" name="Text Box 5"/>
          <p:cNvSpPr/>
          <p:nvPr/>
        </p:nvSpPr>
        <p:spPr>
          <a:xfrm>
            <a:off x="5823000" y="5667480"/>
            <a:ext cx="21013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祭祀孔子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10000" y="5667480"/>
            <a:ext cx="26499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隶书"/>
              </a:rPr>
              <a:t>孔子嫡系子孙居住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03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9" name="Text Box 7"/>
          <p:cNvSpPr/>
          <p:nvPr/>
        </p:nvSpPr>
        <p:spPr>
          <a:xfrm>
            <a:off x="782640" y="228600"/>
            <a:ext cx="223812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文鼎粗圆"/>
              </a:rPr>
              <a:t>读准字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04920" y="1676520"/>
            <a:ext cx="9448560" cy="374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人不知而不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愠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 )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学而不思则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罔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思而不学则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殆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 )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不亦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说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 )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省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  )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吾身  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传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   )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不习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诲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女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)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知之乎      不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知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（   ）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为不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知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(   )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也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124080" y="1676520"/>
            <a:ext cx="1218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ù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7467480" y="1676520"/>
            <a:ext cx="1904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w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971800" y="2514600"/>
            <a:ext cx="2057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d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à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6019920" y="2514600"/>
            <a:ext cx="198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yu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95280" y="3276720"/>
            <a:ext cx="1447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xǐ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5562720" y="3352680"/>
            <a:ext cx="15235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chu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á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066680" y="4114800"/>
            <a:ext cx="152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r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295280" y="502920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宋体"/>
              </a:rPr>
              <a:t>zh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6324480" y="4191120"/>
            <a:ext cx="198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zh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3640" cy="6941880"/>
          </a:xfrm>
          <a:prstGeom prst="rect">
            <a:avLst/>
          </a:prstGeom>
          <a:ln w="9525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533520"/>
            <a:ext cx="335232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翻译指导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幼圆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371600" y="1295280"/>
            <a:ext cx="6705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单音字换成双音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371600" y="1828800"/>
            <a:ext cx="5638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弄清虚词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371600" y="2438280"/>
            <a:ext cx="5714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补充出省略部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371600" y="2971800"/>
            <a:ext cx="7162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调整句子的语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371600" y="3505320"/>
            <a:ext cx="6248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揣摩句子的语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371600" y="4114800"/>
            <a:ext cx="6095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6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注意古今义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295280" y="4648320"/>
            <a:ext cx="6171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7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注意一词多义的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447920" y="5257800"/>
            <a:ext cx="586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   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8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文言文特殊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050"/>
          <p:cNvSpPr/>
          <p:nvPr/>
        </p:nvSpPr>
        <p:spPr>
          <a:xfrm>
            <a:off x="1742400" y="228600"/>
            <a:ext cx="6064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子曰：“学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习之，不亦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51"/>
          <p:cNvSpPr/>
          <p:nvPr/>
        </p:nvSpPr>
        <p:spPr>
          <a:xfrm>
            <a:off x="1906560" y="2286000"/>
            <a:ext cx="5209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有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自远方来，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不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乐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？人不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52"/>
          <p:cNvSpPr/>
          <p:nvPr/>
        </p:nvSpPr>
        <p:spPr>
          <a:xfrm>
            <a:off x="1209240" y="4114800"/>
            <a:ext cx="561708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而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不   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       不亦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君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53"/>
          <p:cNvSpPr/>
          <p:nvPr/>
        </p:nvSpPr>
        <p:spPr>
          <a:xfrm>
            <a:off x="3317760" y="1101600"/>
            <a:ext cx="3006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按时、及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副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54"/>
          <p:cNvSpPr/>
          <p:nvPr/>
        </p:nvSpPr>
        <p:spPr>
          <a:xfrm>
            <a:off x="5975280" y="1143000"/>
            <a:ext cx="3015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通“悦”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愉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不也……吗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56"/>
          <p:cNvSpPr/>
          <p:nvPr/>
        </p:nvSpPr>
        <p:spPr>
          <a:xfrm>
            <a:off x="1097640" y="3303720"/>
            <a:ext cx="1827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志同道合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57"/>
          <p:cNvSpPr/>
          <p:nvPr/>
        </p:nvSpPr>
        <p:spPr>
          <a:xfrm>
            <a:off x="6934320" y="3276720"/>
            <a:ext cx="3047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58"/>
          <p:cNvSpPr/>
          <p:nvPr/>
        </p:nvSpPr>
        <p:spPr>
          <a:xfrm>
            <a:off x="1540080" y="4973760"/>
            <a:ext cx="1611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怨恨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恼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59"/>
          <p:cNvSpPr/>
          <p:nvPr/>
        </p:nvSpPr>
        <p:spPr>
          <a:xfrm>
            <a:off x="5492880" y="4979880"/>
            <a:ext cx="2101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有道德修养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61"/>
          <p:cNvSpPr/>
          <p:nvPr/>
        </p:nvSpPr>
        <p:spPr>
          <a:xfrm>
            <a:off x="143640" y="4903920"/>
            <a:ext cx="4554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66"/>
          <p:cNvSpPr/>
          <p:nvPr/>
        </p:nvSpPr>
        <p:spPr>
          <a:xfrm>
            <a:off x="990720" y="1066680"/>
            <a:ext cx="3123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顺接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68"/>
          <p:cNvSpPr/>
          <p:nvPr/>
        </p:nvSpPr>
        <p:spPr>
          <a:xfrm>
            <a:off x="-609480" y="5791320"/>
            <a:ext cx="3123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转接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72"/>
          <p:cNvSpPr/>
          <p:nvPr/>
        </p:nvSpPr>
        <p:spPr>
          <a:xfrm>
            <a:off x="4114800" y="3657600"/>
            <a:ext cx="3885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不也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73"/>
          <p:cNvSpPr/>
          <p:nvPr/>
        </p:nvSpPr>
        <p:spPr>
          <a:xfrm>
            <a:off x="5334120" y="3048120"/>
            <a:ext cx="2590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语气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75"/>
          <p:cNvSpPr/>
          <p:nvPr/>
        </p:nvSpPr>
        <p:spPr>
          <a:xfrm>
            <a:off x="3184560" y="5643720"/>
            <a:ext cx="59590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文鼎粗圆"/>
              </a:rPr>
              <a:t>理解：这一则讲述学习的方法、乐趣和为人的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7"/>
          <p:cNvSpPr/>
          <p:nvPr/>
        </p:nvSpPr>
        <p:spPr>
          <a:xfrm>
            <a:off x="457200" y="457200"/>
            <a:ext cx="9372240" cy="455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隶书"/>
              </a:rPr>
              <a:t>2.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曾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曰：“吾日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吾身：为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不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与朋友交而不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乎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00"/>
              </a:spcBef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不习乎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28"/>
          <p:cNvSpPr/>
          <p:nvPr/>
        </p:nvSpPr>
        <p:spPr>
          <a:xfrm>
            <a:off x="-304920" y="1143000"/>
            <a:ext cx="4723920" cy="14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曾参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子的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29"/>
          <p:cNvSpPr/>
          <p:nvPr/>
        </p:nvSpPr>
        <p:spPr>
          <a:xfrm>
            <a:off x="3809880" y="1143000"/>
            <a:ext cx="1523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多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105520" y="1143000"/>
            <a:ext cx="1218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反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0" y="3352680"/>
            <a:ext cx="1980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出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2057400" y="3352680"/>
            <a:ext cx="1447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忠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36"/>
          <p:cNvSpPr/>
          <p:nvPr/>
        </p:nvSpPr>
        <p:spPr>
          <a:xfrm>
            <a:off x="7010280" y="3124080"/>
            <a:ext cx="1447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37"/>
          <p:cNvSpPr/>
          <p:nvPr/>
        </p:nvSpPr>
        <p:spPr>
          <a:xfrm>
            <a:off x="0" y="5334120"/>
            <a:ext cx="4495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老师传授的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38"/>
          <p:cNvSpPr/>
          <p:nvPr/>
        </p:nvSpPr>
        <p:spPr>
          <a:xfrm>
            <a:off x="4495680" y="3886200"/>
            <a:ext cx="4952520" cy="242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理解</a:t>
            </a:r>
            <a:r>
              <a:rPr b="0" lang="en-US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:</a:t>
            </a: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这一则可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出古代治学人非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重视品德的修养</a:t>
            </a:r>
            <a:r>
              <a:rPr b="0" lang="en-US" sz="40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80008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80008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Presentation Designs\Expedition.pot</Template>
  <TotalTime>0</TotalTime>
  <Application>LibreOffice/7.4.7.2$Linux_X86_64 LibreOffice_project/40$Build-2</Application>
  <AppVersion>15.0000</AppVersion>
  <Words>1863</Words>
  <Paragraphs>2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15:03:00Z</dcterms:created>
  <dc:creator>第一PPT模板网-WWW.1PPT.COM</dc:creator>
  <dc:description/>
  <cp:keywords>第一PPT模板网-WWW.1PPT.COM</cp:keywords>
  <dc:language>en-US</dc:language>
  <cp:lastModifiedBy>xinxing</cp:lastModifiedBy>
  <dcterms:modified xsi:type="dcterms:W3CDTF">2017-04-16T15:34:22Z</dcterms:modified>
  <cp:revision>76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25</vt:r8>
  </property>
</Properties>
</file>